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F0B6-F297-4B6E-9FDA-F7714BFE7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9CDD-092E-4F35-ADBD-15D198496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7512-B333-4690-BC5C-71556E985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1C6C-77E5-4FEA-A561-60CDCAEC4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EF86-5B7B-404E-A564-63FB54D71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80AC-8C87-4B47-9F11-8ED539DFE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7347-939F-4B21-8DDD-3085FEDEC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2F52-8EBD-4D08-8EE2-C4C962AB6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584B-64C2-4AF8-87C5-DD90E0D9C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320A-6166-4D08-A8DD-2894C2A2E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79FA-91C7-46A9-AD58-1DCA0B07A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6A01-D561-4E28-B73B-B2CFCCB10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BB30D-D469-4902-9BF4-D32EE20744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ce Value Ga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45.89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0" y="22860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ree hundred forty-five and eight hundred ninety-sev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410440" y="3048120"/>
            <a:ext cx="3094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ousandth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4120" y="533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.5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2860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ree and fifty-si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952880" y="533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792040" y="2209680"/>
            <a:ext cx="2890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undredth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0.00000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8088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ight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10080" y="609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46640" y="2133720"/>
            <a:ext cx="26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illionth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0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00400" y="5105520"/>
            <a:ext cx="1843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327560" y="650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641760" y="2327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743200" y="3505320"/>
            <a:ext cx="358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eve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96760" y="3505320"/>
            <a:ext cx="163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enth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724280" y="914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0.98761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240" y="2743200"/>
            <a:ext cx="85345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ine hundred eighty-seven thousand six hundred twelv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69920" y="4191120"/>
            <a:ext cx="26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illionth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410080" y="4572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1295280"/>
            <a:ext cx="33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48320" y="1905120"/>
            <a:ext cx="183960" cy="4572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0.89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4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ight hundred ninety-on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143360" y="4724280"/>
            <a:ext cx="3094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ousandth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05520" y="16002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0.9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522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inety-fiv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801680" y="3886200"/>
            <a:ext cx="2890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undredth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952880" y="17524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0.345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228600" y="3123720"/>
            <a:ext cx="87631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ree thousand four hundred fifty-sev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28800" y="3886200"/>
            <a:ext cx="399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en thousandth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67080" y="1600200"/>
            <a:ext cx="33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343400" y="2133720"/>
            <a:ext cx="184320" cy="45720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0.9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304812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in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20800" y="3733920"/>
            <a:ext cx="163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enth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00600" y="1752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0.8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0" y="2437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ighty-sev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953960" y="2438280"/>
            <a:ext cx="2890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undredth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00600" y="914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2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22860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welve and fiv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487480" y="2743200"/>
            <a:ext cx="163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enth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76920" y="304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03:12:53Z</dcterms:created>
  <dc:creator>Dekalb County School</dc:creator>
  <dc:description/>
  <dc:language>en-US</dc:language>
  <cp:lastModifiedBy>Dekalb County School</cp:lastModifiedBy>
  <dcterms:modified xsi:type="dcterms:W3CDTF">2012-04-04T05:11:54Z</dcterms:modified>
  <cp:revision>11</cp:revision>
  <dc:subject/>
  <dc:title>Place Value Game</dc:title>
</cp:coreProperties>
</file>